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BAD-5633-42D1-8D70-E8C39396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F85-CA40-4295-B8B8-CE7E421D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351-DF3C-4F0D-9F68-6274EB0B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A14-D952-4096-BFD0-FB5D5129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BB7-9FE4-4418-864C-6235FC86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759-D315-447B-B5FB-A0B6EE4B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E6C-7B26-4E6C-8571-D28BD5E8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C6C-02E7-4F05-9D87-42F1EFDA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B9D-868D-4CF0-B993-121FC6F7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49F-4B8F-4B38-94DC-046B6BD4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C18-ED11-4891-8B8A-554FB121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30D-A6B4-44D8-8E90-455464CE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D39C-278D-45DF-8D71-0B3C87A6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8 de marz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uedes jugar béis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Ad  on the bottom of p. 25, in ENGLISH, tell as much as you can about what this factory manufactur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ells/mak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 (9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7:23:06Z</dcterms:created>
  <dc:creator>Helen Zumaeta</dc:creator>
  <dc:description/>
  <dc:language>en-US</dc:language>
  <cp:lastModifiedBy>Helen Zumaeta</cp:lastModifiedBy>
  <cp:lastPrinted>2013-03-18T16:46:59Z</cp:lastPrinted>
  <dcterms:modified xsi:type="dcterms:W3CDTF">2013-03-18T18:08:43Z</dcterms:modified>
  <cp:revision>12</cp:revision>
  <dc:subject/>
  <dc:title>Me llamo ________ Clase 7il La fecha es el 18 de octubre del 2012</dc:title>
</cp:coreProperties>
</file>